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2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2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14.jpeg" ContentType="image/jpeg"/>
  <Override PartName="/ppt/media/image16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jpeg" ContentType="image/jpeg"/>
  <Override PartName="/ppt/media/image25.png" ContentType="image/pn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BC44-A1A9-46E8-9EBA-6FE4AE1B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F5C1-0897-455A-BF7E-1EC0662D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DCC8-E3A2-4752-98AD-7A67AEC86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3F7E-59B9-43CB-96F5-46275C4E2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6FA3-6F6F-4169-9C41-2B459573A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7B73-EF5F-4FFF-8DF7-7F8BCA19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8581-67F5-4F56-A123-586C5FE3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AF5A-0474-452D-993A-34BC01F9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A3E9-3A46-47C2-B981-D2DD2126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A35C-4F06-43C6-BB77-8C303219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DE4C-8E20-42DA-9621-9F70C749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46EE-9B3C-4FA4-BE31-0B9CE433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295A-A28B-4865-8105-EBAB5F7F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12AA-8813-4463-8E93-06296D4A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6872-6688-4A55-8239-4C5436CB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A80D-8B2F-4E30-89B2-AE956E57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9010-069A-454F-9F93-4A48FA9DC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CBBC-ECFB-48B1-A708-86CE7DAE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E159-6280-4630-A42B-A8FC5B2C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B1AA-1311-4DAE-B2C7-1201C7B6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7986-CABF-4D17-B93D-D6FAD647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647C-BE13-4FBD-A544-36FDDF36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5670-3991-4C70-AC71-F6D8E0C4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25F8-0DD3-4433-B9B4-30579136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95D6-A3BF-4447-B7E3-EDA1DB9CF97B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1A80-0EEF-4829-A01B-DBD5CAFB41B8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hyperlink" Target="http://cs10384.vkontakte.ru/u936497/-1/x_2d1b5263.jpg" TargetMode="External"/><Relationship Id="rId4" Type="http://schemas.openxmlformats.org/officeDocument/2006/relationships/hyperlink" Target="http://www.sostav.ru/articles/rus/2005/columns/rek-time/images/minin907.jpg" TargetMode="External"/><Relationship Id="rId5" Type="http://schemas.openxmlformats.org/officeDocument/2006/relationships/hyperlink" Target="http://www.pravmir.ru/wp-content/uploads/2011/11/mip-580x380.jpg" TargetMode="External"/><Relationship Id="rId6" Type="http://schemas.openxmlformats.org/officeDocument/2006/relationships/hyperlink" Target="http://history.sgu.ru/img/thumbs/x1-p6_s.jpg" TargetMode="External"/><Relationship Id="rId7" Type="http://schemas.openxmlformats.org/officeDocument/2006/relationships/hyperlink" Target="http://www.rusizn.ru/images/smuta/sm014_1.jpg" TargetMode="External"/><Relationship Id="rId8" Type="http://schemas.openxmlformats.org/officeDocument/2006/relationships/hyperlink" Target="http://sbiblio.com/biblio/archive/zanin_smuta_time_in_rus/001.jpg" TargetMode="External"/><Relationship Id="rId9" Type="http://schemas.openxmlformats.org/officeDocument/2006/relationships/hyperlink" Target="http://www.pravoslavie.ru/sas/image/100489/48957.p.jpg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www.pravoslavie.ru/sas/image/100489/48957.p.jpg"/>
          <p:cNvPicPr/>
          <p:nvPr/>
        </p:nvPicPr>
        <p:blipFill>
          <a:blip r:embed="rId2"/>
          <a:stretch/>
        </p:blipFill>
        <p:spPr>
          <a:xfrm>
            <a:off x="1446120" y="1773360"/>
            <a:ext cx="6340680" cy="4601880"/>
          </a:xfrm>
          <a:prstGeom prst="rect">
            <a:avLst/>
          </a:prstGeom>
          <a:ln w="0">
            <a:noFill/>
          </a:ln>
        </p:spPr>
      </p:pic>
      <p:pic>
        <p:nvPicPr>
          <p:cNvPr id="83" name="Заголовок 4" descr=""/>
          <p:cNvPicPr/>
          <p:nvPr/>
        </p:nvPicPr>
        <p:blipFill>
          <a:blip r:embed="rId3"/>
          <a:stretch/>
        </p:blipFill>
        <p:spPr>
          <a:xfrm>
            <a:off x="384120" y="103320"/>
            <a:ext cx="850428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42600"/>
            <a:ext cx="300816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5 августа  Ходкевич был изгнан из Москвы. Однако не вся Москва была освобождена от захватчиков. Оставались ещё польские отряды полковников Струся и Будилы, засевшие в Китай-городе и Кремле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ная, что осажденные поляки терпят страшный голод, Пожарский направил им письмо, в котором предлагал польскому рыцарству сдаться. «Ваши головы и жизнь будут сохранены вам, — писал он, — я возьму это на свою душу и упрошу согласия на это всех ратных людей». На что от польских полковников последовал высокомерный и хвастливый ответ с отказом на предложение Пожарского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Содержимое 4" descr="Lissner.jpg"/>
          <p:cNvPicPr/>
          <p:nvPr/>
        </p:nvPicPr>
        <p:blipFill>
          <a:blip r:embed="rId2"/>
          <a:stretch/>
        </p:blipFill>
        <p:spPr>
          <a:xfrm>
            <a:off x="3575160" y="642960"/>
            <a:ext cx="52830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2"/>
          <a:stretch/>
        </p:blipFill>
        <p:spPr>
          <a:xfrm>
            <a:off x="304920" y="268200"/>
            <a:ext cx="3187440" cy="7192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999720"/>
            <a:ext cx="300816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2 октября 1612 года Китай-город был взят приступом русскими войсками. А на 27 октября был назначен торжественный вход в Кремль войск князей Пожарского и Трубецкого. Когда войска собрались у Лобного места, архимандрит Троице-Сергиевого монастыря Дионисий совершил торжественный молебен в честь победы ополченцев. После чего под звон колоколов победители в сопровождении народа вступили в Кремль со знаменами и хоругвями. Так завершилось очищение Москвы и Московского государства от иноземных захватчико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Содержимое 4" descr="56429.jpeg"/>
          <p:cNvPicPr/>
          <p:nvPr/>
        </p:nvPicPr>
        <p:blipFill>
          <a:blip r:embed="rId3"/>
          <a:stretch/>
        </p:blipFill>
        <p:spPr>
          <a:xfrm>
            <a:off x="3643200" y="1143000"/>
            <a:ext cx="528660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2"/>
          <a:stretch/>
        </p:blipFill>
        <p:spPr>
          <a:xfrm>
            <a:off x="274680" y="244440"/>
            <a:ext cx="3230640" cy="755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928440"/>
            <a:ext cx="3471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мятник Минину и Пожарскому - самый первый в Москве! Однако, изначально его планировали установить в Нижнем Новгороде - в городе, где было собрано ополчение, "на том самом месте, где Минин представил народу все имущество своё и воспламенил тем соревнование своих сограждан", а установку приурочить к 200-летию памятных событий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ечественная война 1812 года повлияла на многие сферы жизни и интерес к созданию памятника был и так велик, но после Отечественной войны, на волне подъема патриотизма, он вырос еще больше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Содержимое 4" descr="0_5dcb_b497bbfd_XL.jpg"/>
          <p:cNvPicPr/>
          <p:nvPr/>
        </p:nvPicPr>
        <p:blipFill>
          <a:blip r:embed="rId3"/>
          <a:stretch/>
        </p:blipFill>
        <p:spPr>
          <a:xfrm>
            <a:off x="4041720" y="272880"/>
            <a:ext cx="417852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28760"/>
            <a:ext cx="300816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кульптор изобразил момент, когда Кузьма Минин, указывая рукой на Москву, вручает князю Пожарскому старинный меч и призывает его встать во главе русского войска. Опираясь на щит, раненый воевода приподнимается со своего ложа, что символизирует пробуждение народного самосознания в трудный для Отечества час. Установить памятник решили в Москве, на Красной площад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Содержимое 4" descr="s0806242.jpg"/>
          <p:cNvPicPr/>
          <p:nvPr/>
        </p:nvPicPr>
        <p:blipFill>
          <a:blip r:embed="rId2"/>
          <a:stretch/>
        </p:blipFill>
        <p:spPr>
          <a:xfrm>
            <a:off x="3786120" y="571680"/>
            <a:ext cx="48578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2"/>
          <a:stretch/>
        </p:blipFill>
        <p:spPr>
          <a:xfrm>
            <a:off x="341280" y="268200"/>
            <a:ext cx="3382920" cy="1255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6 декабря 2004 года Госдума РФ приняла одновременно в трех чтениях поправки в Федеральный закон «О днях воинской славы (Победных днях России)». Одной из правок было введение нового праздника — Дня народного единства  4 ноября., в день освобождения Москвы от польских интервент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400"/>
            </a:br>
            <a:br>
              <a:rPr sz="14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Содержимое 6" descr="268.jpg"/>
          <p:cNvPicPr/>
          <p:nvPr/>
        </p:nvPicPr>
        <p:blipFill>
          <a:blip r:embed="rId3"/>
          <a:stretch/>
        </p:blipFill>
        <p:spPr>
          <a:xfrm>
            <a:off x="4121280" y="179280"/>
            <a:ext cx="430848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3017880" cy="7383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214280"/>
            <a:ext cx="30081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Итак, в ноябре 1612 года страна была спасена. Спасена самоотверженностью людей, патриотически настроенных представителей разных сословий и народностей, сумевших преодолеть эгоизм и неприятие друг друга в борьбе против общего врага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Так было в 1612, так было через 200 лет 1812 во время борьбы с Наполеоном, так было во время Великой Отечественной войны в 1941-1945. И так должно быть всегда!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Содержимое 4" descr="3_resize.jpg"/>
          <p:cNvPicPr/>
          <p:nvPr/>
        </p:nvPicPr>
        <p:blipFill>
          <a:blip r:embed="rId3"/>
          <a:stretch/>
        </p:blipFill>
        <p:spPr>
          <a:xfrm>
            <a:off x="3575160" y="919080"/>
            <a:ext cx="511164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2"/>
          <a:stretch/>
        </p:blipFill>
        <p:spPr>
          <a:xfrm>
            <a:off x="2639880" y="493560"/>
            <a:ext cx="3340080" cy="920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85920" y="1571400"/>
            <a:ext cx="711504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олерантность означает терпимость к чужим мнениям и поступкам, способность относиться к ним без раздражен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Содержимое 4" descr="img1.gif"/>
          <p:cNvPicPr/>
          <p:nvPr/>
        </p:nvPicPr>
        <p:blipFill>
          <a:blip r:embed="rId3"/>
          <a:stretch/>
        </p:blipFill>
        <p:spPr>
          <a:xfrm>
            <a:off x="1500120" y="2714760"/>
            <a:ext cx="665964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3017880" cy="1170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28760" y="857160"/>
            <a:ext cx="30081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дьте терпимее к другим людям. Запомните - не все думают и живут не так как вы, не все имеют такое же мнение как вы. И вы не можете ставить это людям в вину. Многообразие мира это прекрасно. Иначе мир был бы серым, скучны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Содержимое 8" descr="my_ediny - копия.jpg"/>
          <p:cNvPicPr/>
          <p:nvPr/>
        </p:nvPicPr>
        <p:blipFill>
          <a:blip r:embed="rId3"/>
          <a:stretch/>
        </p:blipFill>
        <p:spPr>
          <a:xfrm>
            <a:off x="3575160" y="1390680"/>
            <a:ext cx="511164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4" descr=""/>
          <p:cNvPicPr/>
          <p:nvPr/>
        </p:nvPicPr>
        <p:blipFill>
          <a:blip r:embed="rId2"/>
          <a:stretch/>
        </p:blipFill>
        <p:spPr>
          <a:xfrm>
            <a:off x="165240" y="633240"/>
            <a:ext cx="8942400" cy="13716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285480" y="2214720"/>
            <a:ext cx="828684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ные ресурс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ртрет Д. Пожарского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lemur59.ru/sites/default/files/images/1030.jpg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инин и Пожарский в Москве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cs10384.vkontakte.ru/u936497/-1/x_2d1b5263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амятник Минину и Пожарскому в Москве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http://www.sostav.ru/articles/rus/2005/columns/rek-time/images/minin907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инин и Пожарский въезжают в Москву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5"/>
              </a:rPr>
              <a:t>http://www.pravmir.ru/wp-content/uploads/2011/11/mip-580x380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«Изгнание польских интервентов из Московского Кремля. Автор: Лисснер Э.»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http://history.sgu.ru/img/thumbs/x1-p6_s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Первое ополчение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7"/>
              </a:rPr>
              <a:t>http://www.rusizn.ru/images/smuta/sm014_1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Дворянская конница XVI в. С. Герберштейн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http://sbiblio.com/biblio/archive/zanin_smuta_time_in_rus/001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Баталия. </a:t>
            </a:r>
            <a:r>
              <a:rPr b="1" lang="en-US" sz="1100" spc="-1" strike="noStrike">
                <a:solidFill>
                  <a:srgbClr val="000000"/>
                </a:solidFill>
                <a:latin typeface="Book Antiqua"/>
              </a:rPr>
              <a:t>http://dugward.ru/library/miechow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День народного единства . </a:t>
            </a:r>
            <a:r>
              <a:rPr b="1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9"/>
              </a:rPr>
              <a:t>http://www.pravoslavie.ru/sas/image/100489/48957.p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ловно радуги цвета…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uvo.do.am/foto_novosti/my_ediny.jpg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руг толерантности.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 http://www.savelki.ru/kdn_i_zp/DruzhbaNarodovV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хема толерантности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rudocs.exdat.com/pars_docs/tw_refs/260/259336/259336_html_m3f4f0f84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нституция РФ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s015.radikal.ru/i332/1103/c8/67e43198a07d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нституция РФ Статья 3, любое издани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нституция РФ Статья 19, любое издани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2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 истор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йчикова Татьяна Виктор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БОУ СОШ № 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м. А.А. Перфилье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азработке презентации принимали участие учащиеся 9-11 классов, члены школьного кружка по краеведе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ознакомить учащихся с историей возникновения праздника День народного единств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родолжить патриотическое воспитание школьников через осознание необходимости всеобщего единения для победы над агрессорам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родолжить формирование толерантности по отношению к людям любых народов, наций, религий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2" descr=""/>
          <p:cNvPicPr/>
          <p:nvPr/>
        </p:nvPicPr>
        <p:blipFill>
          <a:blip r:embed="rId2"/>
          <a:stretch/>
        </p:blipFill>
        <p:spPr>
          <a:xfrm>
            <a:off x="371520" y="19080"/>
            <a:ext cx="3060720" cy="1090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30081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татья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Носителем суверенитета и единственным источником власти в Российской Федерации является ее многонациональный народ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татья 1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Государство гарантирует равенство прав и свобод человека и гражданина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, принадлежности к общественным объединениям, а также других обстоятельств. Запрещаются любые формы ограничения прав граждан по признакам социальной, расовой, национальной, языковой или религиозной принадлежност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Содержимое 5" descr="67e43198a07d.jpg"/>
          <p:cNvPicPr/>
          <p:nvPr/>
        </p:nvPicPr>
        <p:blipFill>
          <a:blip r:embed="rId3"/>
          <a:stretch/>
        </p:blipFill>
        <p:spPr>
          <a:xfrm>
            <a:off x="4032360" y="272880"/>
            <a:ext cx="419724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4" descr=""/>
          <p:cNvPicPr/>
          <p:nvPr/>
        </p:nvPicPr>
        <p:blipFill>
          <a:blip r:embed="rId2"/>
          <a:stretch/>
        </p:blipFill>
        <p:spPr>
          <a:xfrm>
            <a:off x="274680" y="268200"/>
            <a:ext cx="3193920" cy="12366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</a:rPr>
              <a:t>В начале </a:t>
            </a:r>
            <a:r>
              <a:rPr b="1" lang="de-DE" sz="1800" spc="-1" strike="noStrike">
                <a:solidFill>
                  <a:srgbClr val="0d0d0d"/>
                </a:solidFill>
                <a:latin typeface="Book Antiqua"/>
              </a:rPr>
              <a:t>XVII </a:t>
            </a:r>
            <a:r>
              <a:rPr b="1" lang="ru-RU" sz="1800" spc="-1" strike="noStrike">
                <a:solidFill>
                  <a:srgbClr val="0d0d0d"/>
                </a:solidFill>
                <a:latin typeface="Times New Roman"/>
              </a:rPr>
              <a:t>века на российской земле царил хаос и разруха. Противостояние внутри страны приобрело трагический характер: рвались родственные связи, гибли виновные и безвинные. Усугубляли положение внешние силы, вынашивавшие планы ослабления и подчинения России</a:t>
            </a:r>
            <a:r>
              <a:rPr b="1" lang="ru-RU" sz="1400" spc="-1" strike="noStrike">
                <a:solidFill>
                  <a:srgbClr val="0d0d0d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Содержимое 9" descr="miechow.jpg"/>
          <p:cNvPicPr/>
          <p:nvPr/>
        </p:nvPicPr>
        <p:blipFill>
          <a:blip r:embed="rId3"/>
          <a:stretch/>
        </p:blipFill>
        <p:spPr>
          <a:xfrm>
            <a:off x="3714840" y="714240"/>
            <a:ext cx="50004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2"/>
          <a:stretch/>
        </p:blipFill>
        <p:spPr>
          <a:xfrm>
            <a:off x="304920" y="-23760"/>
            <a:ext cx="3163680" cy="1517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эти трагические месяцы огромную роль сыграли посадские и уездные люди, которые взяли инициативу освобождения России и изгнание интервентов в свои рук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Содержимое 4" descr="sm014_1.jpg"/>
          <p:cNvPicPr/>
          <p:nvPr/>
        </p:nvPicPr>
        <p:blipFill>
          <a:blip r:embed="rId3"/>
          <a:stretch/>
        </p:blipFill>
        <p:spPr>
          <a:xfrm>
            <a:off x="3786120" y="1000080"/>
            <a:ext cx="50720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51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1611 году в Рязани под руководством Прокопия Ляпунова было создано народное ополчение. Кроме Ляпунова им руководили князь Трубецкой  и атаман Заруцк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-за противоречий между ними и предательства Заруцкого 1-е ополчение распалос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Содержимое 4" descr="07-14.jpg"/>
          <p:cNvPicPr/>
          <p:nvPr/>
        </p:nvPicPr>
        <p:blipFill>
          <a:blip r:embed="rId2"/>
          <a:stretch/>
        </p:blipFill>
        <p:spPr>
          <a:xfrm>
            <a:off x="4071960" y="1143000"/>
            <a:ext cx="42861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2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30430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ссия, по словам современников пребывала «при последнем времени» Казалось, уже не осталось сил для ее возрожд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люди вновь продемон- стрировали свою волю. Осенью 1611 года, усилиями нижегородского старосты Кузьмы Минина было создано Второе ополче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Содержимое 4" descr="minin-580x353.jpg"/>
          <p:cNvPicPr/>
          <p:nvPr/>
        </p:nvPicPr>
        <p:blipFill>
          <a:blip r:embed="rId3"/>
          <a:stretch/>
        </p:blipFill>
        <p:spPr>
          <a:xfrm>
            <a:off x="3786120" y="857160"/>
            <a:ext cx="51436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56760" y="1500120"/>
            <a:ext cx="30085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ыл найден и воевода, не запятнавший себя изменами,- князь Дмитрий Михайлович Пожарский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Содержимое 4" descr="1030.jpg"/>
          <p:cNvPicPr/>
          <p:nvPr/>
        </p:nvPicPr>
        <p:blipFill>
          <a:blip r:embed="rId2"/>
          <a:stretch/>
        </p:blipFill>
        <p:spPr>
          <a:xfrm>
            <a:off x="4000680" y="384120"/>
            <a:ext cx="457200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2"/>
          <a:stretch/>
        </p:blipFill>
        <p:spPr>
          <a:xfrm>
            <a:off x="304920" y="-23760"/>
            <a:ext cx="3243240" cy="15177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августе 1612 года полки Второго ополчения подошли к Москв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десь в районе Новодевичьего монастыря им пришлось вести тяжелые бои с гетманом Ходкевиче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решающий момент отрядам Второго ополчения помогли казаки Первого ополчения. Боевое содружество привело к победе над врагом и к объединению всех си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Содержимое 6" descr="1262194244_imgb.jpeg"/>
          <p:cNvPicPr/>
          <p:nvPr/>
        </p:nvPicPr>
        <p:blipFill>
          <a:blip r:embed="rId3"/>
          <a:stretch/>
        </p:blipFill>
        <p:spPr>
          <a:xfrm>
            <a:off x="3575160" y="1000080"/>
            <a:ext cx="5283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13:57:06Z</dcterms:created>
  <dc:creator>дом</dc:creator>
  <dc:description/>
  <dc:language>en-US</dc:language>
  <cp:lastModifiedBy>Мама</cp:lastModifiedBy>
  <dcterms:modified xsi:type="dcterms:W3CDTF">2012-10-29T04:23:41Z</dcterms:modified>
  <cp:revision>36</cp:revision>
  <dc:subject/>
  <dc:title>Слайд 1</dc:title>
</cp:coreProperties>
</file>